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95EA-3431-4323-B22E-9E9B1AE7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44A-1C64-40B1-803A-7814190F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3F2-336A-4B8C-A55A-A6315B33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BB7-0BB0-4FBD-B9ED-317F6F4D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F635-6286-4309-A6BA-F17CD94C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DBA-7CFE-42AE-902C-221E91CE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7F8-ED53-4625-97CD-7F753C0A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569-2716-4233-8A8D-7F9216C2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75A-6DDD-4728-B7C9-37164499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678-E701-45E1-B7F4-1230FB22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9C41-30DE-4634-974F-94E3DDCC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8CF0-FF4C-452E-A297-752DF775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BDFF-6D64-4236-ACE2-E13209D2B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Subject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533520" y="12952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lly played on my tea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3520" y="22860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095880" y="22860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33520" y="32004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S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l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yed on my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lly and Bess painted a pictur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867280" y="259092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ly and B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KELLY AND B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elly and B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inted a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33520" y="12193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 mother and her friend had a par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33520" y="228600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867280" y="2286000"/>
            <a:ext cx="2895840" cy="181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mother and her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533520" y="3886200"/>
            <a:ext cx="8229600" cy="18406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MY MOTHER AND HER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y mother and her frie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d a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OMPLETE THE INDEPENDENT PRACTICE HANDOU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ittens pur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274176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095880" y="274176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tt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KIT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itte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ur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533520" y="12952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m and Dad went to the stor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33520" y="220968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095880" y="2209680"/>
            <a:ext cx="2667240" cy="181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and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33520" y="36576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MOM AND 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m and D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ent to the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33520" y="126540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obby and Jimmy played bal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33520" y="217980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2179800"/>
            <a:ext cx="2895840" cy="181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by and Jim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33520" y="368784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BOBBY AND JIM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bby and Jimm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yed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lowers bloo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3520" y="243828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095880" y="243828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FLO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low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l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33520" y="15238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m likes it when I get all A’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867280" y="259092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M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kes it when I get all A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e went swimm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095880" y="27432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ent swim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UBJECT of a sent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838080" y="2378160"/>
            <a:ext cx="7391520" cy="25822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the naming part.  It tells you WHO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33520" y="1371600"/>
            <a:ext cx="8229600" cy="1219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 students do our homework every nigh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867280" y="274320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33520" y="3429000"/>
            <a:ext cx="8229600" cy="33238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MY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y stude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 their homework every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33520" y="12952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ula, Sue, and Pat live in Bost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3520" y="2209680"/>
            <a:ext cx="5562360" cy="13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867280" y="2209680"/>
            <a:ext cx="2895840" cy="181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a, Sue, and P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PAULA, SUE, AND P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ula, Sue, and P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ve in Bos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rla made a homeru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33520" y="22860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5880" y="22860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33520" y="312408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CA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l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de a homer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533520" y="15238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cle Joe plays ball with Sam and m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sentence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867280" y="2590920"/>
            <a:ext cx="2895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le J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UNCLE J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cle Jo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ys ball with Sam an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ranny gave Ginny a hu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33520" y="25146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095880" y="25146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FRA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ann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ave Ginny a h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MB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990720" y="1219320"/>
            <a:ext cx="7391160" cy="25822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the naming part.  It tells you WHO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990720" y="4024440"/>
            <a:ext cx="7391160" cy="20739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you read the sentence, ask yourself “WHO is this sentence about?”.  The person or thing the sentence is about is 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find the subj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838080" y="1066680"/>
            <a:ext cx="7391520" cy="270432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you read the sentence, ask yourself “WHO is this sentence about?”.  The person or thing the sentence is about is 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838080" y="3902040"/>
            <a:ext cx="7391520" cy="27043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for the action word.  Usually, the words in front of the action words in a telling sentence are 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33520" y="152388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g chased the mail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33520" y="2514600"/>
            <a:ext cx="822960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THE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do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ased the mail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33520" y="1371600"/>
            <a:ext cx="82296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’s dad drives the tru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33520" y="25146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095880" y="25146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’s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L’S 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’s d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rives the tr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 makes a big splas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33520" y="274320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095880" y="27432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33520" y="350532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kes a big spla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rogs croa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095880" y="259092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33520" y="342900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FRO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og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ro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e grabs his thin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3520" y="259092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095880" y="259092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33520" y="358128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rabs his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33520" y="1447920"/>
            <a:ext cx="82296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other and I did our homewor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3520" y="2666880"/>
            <a:ext cx="5562360" cy="61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entenc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095880" y="266688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 and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33520" y="3505320"/>
            <a:ext cx="8229600" cy="2836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UB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BROTHER AND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other and 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id our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18:52:58Z</dcterms:created>
  <dc:creator>Kristen M. Clasen</dc:creator>
  <dc:description/>
  <dc:language>en-US</dc:language>
  <cp:lastModifiedBy>Laura McDow</cp:lastModifiedBy>
  <dcterms:modified xsi:type="dcterms:W3CDTF">2010-08-17T22:23:50Z</dcterms:modified>
  <cp:revision>12</cp:revision>
  <dc:subject/>
  <dc:title>Complete and Incomplete Sentences</dc:title>
</cp:coreProperties>
</file>